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636-34B3-43F1-98A5-987ABEC2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7B9C-D037-461E-902F-D326705B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2FCEE-F0F2-404F-9347-EB40D7C5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AA7B9-84C5-48E0-8414-07C45AB0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00B8A-FBE0-45F0-8D77-98EE7FE8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8D4A9-FEA7-459C-B77B-3FCEAFF8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D5454-BB01-4093-A14F-C030AADA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918F2-15A3-4022-BE99-83D5905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E8E92-F20E-4393-B8B6-659DC63F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4D698-CFD2-4D15-A1E3-9F37F7BF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FD0FC-3458-442B-8330-0E60D9CE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2A505-6DCB-4EF8-91E0-4117F1CC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84D-2C3B-451D-AFE6-FCD51CA9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86771-864B-4DE5-A87C-9EF40556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F247A-A22C-4507-BB36-81450324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0D34-0DB8-4D7C-BB85-658B325B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9FD73-8408-4243-94E3-958C8664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7ED1E-57EF-4ADF-B277-AB1A1F5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B4ED3-40B3-4A5B-B25B-5C1E80D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AE412-E1E1-4D48-B00F-2B8A224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54048-7383-47BF-AE59-002E9973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D4262-0880-4C2E-8089-C6571469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0B929-06E0-4997-A36F-31FF7F50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624-5A4B-4CCC-A140-1C8FF641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9EEBF-141C-45AD-83F9-01A6E574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29731-085F-4995-AEE2-664722C5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28702-7263-4750-9933-75534DF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3D652-C63C-492B-A815-C72654AB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66023-E256-41BE-9816-4CA99A0B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86310-5B18-4CDC-9676-76B5BA03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86770-98C3-4BEA-BAAA-B696C004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6C8BC-A250-45D9-8388-2F7DBE3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67243-78D3-40D7-9209-30007C63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CE865-7AB9-4009-94FF-4E13DD61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5EFF-C2C7-4D4B-B7D0-767AFC90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28A8D-923C-42C2-B989-16A5CC64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60940-3311-42FC-B7F3-E6E079F6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F5E2-6F79-4E73-AD47-4B911CC3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582CB-12F7-478D-AB95-9F5DA839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E9E2D-F56B-43C5-AA75-5A24EB51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81893-F045-46B6-9EB5-FE982129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7EA4B-15C3-4F7B-A8C8-9D9FBA5A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5EAA5-0D35-4973-9413-348B0915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C9FE0-7F88-4E7F-85CB-35BF170A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7AFF6-6749-49BF-9387-AE85A2B7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CC01-70FD-45E5-B491-1F7D237D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89070-2890-446F-A850-E6F4968B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AA959-2781-4025-B229-8C6D234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67C86-D024-4FDB-9B18-20D9D662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C1E4A-AE20-4C9D-8023-3AF40BFF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4C18B-F487-4008-989E-080ABBE2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D51FC-ABDE-4FA9-9851-5D79ACC0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538DC-D949-4845-9369-A6E39D7A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CAD9B-89BC-4A82-A66B-D88AA6DF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4E1C6-C06E-4079-8312-0315055D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E8398-D221-49C5-8B51-1D230709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3050-B916-4ADB-8E62-B721081A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2EFE3-ED99-4111-83AB-0232E00A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4C757-84EA-4DBD-89E0-FC74329B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8992F-0029-460F-A546-14FC39F8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DBCEAB-66EA-4782-A5D5-D861852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F25F0-15E2-4501-8038-C620A498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9D9AB-4611-42DD-83E8-ED4CA532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96F392-40E4-458F-8D1F-B102BBA1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483CF-01C1-4CF5-94DD-AE4AC6F7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C536D-DDB9-4969-893E-6E30B979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6CE55-0BF5-4ECB-BE87-090865B3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3F01-2A27-4CEC-BD6C-79511258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0069F-7659-44E2-AF92-86FA3893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FDEB2-4A75-4335-8E24-57B5E4A1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0566B-4E04-4F11-BEDB-48BA4AC9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3C40B-BBF9-4FC6-8CB7-989EF63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A93F2-5427-4BEC-BC83-C6B2BC1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68242-AE6C-4585-8E0F-FD4BC21C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64B23-E4A1-4A97-9BB6-F2E5D76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63F5F-0799-4EB0-B1B0-88C4E7CC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93E5E-A4E7-4929-B227-F4423888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E178F-B8D1-41AF-9663-667B550A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87A5-CF4F-49C3-9FFA-905BA248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9202DB-8094-4789-BF6E-533F8B17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FF972-5407-4A1B-9661-FCF80954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A0C76-E0E8-4602-B579-97C4ABDD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9C832-A134-454D-8BEE-5F047F5E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77431A-DD06-4289-B590-C1506BA8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6F4C89-AE97-449B-BBF2-AC278DC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4FF7F-3868-4F4A-A8FE-F3E09FB4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1E405-FEAA-4A02-8EF6-3C54879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27045-11E5-48DC-A774-F8CC8758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A8607-E06E-48D5-9CD2-9FAF8144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1150-8300-4F86-B2A6-98CF6BC1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F8F63-5DEE-4F6B-B80D-3F5AE471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083B6-0964-4272-94BE-312F3609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9F29C9-E667-486B-B800-25479CC3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219C9-3926-4FAA-BE23-B9E28BAA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F5B8F-F6AF-4CD5-8140-4C671C64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4DF0A-4997-4E71-A8C7-A5DB6ACB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447DC-8090-4689-B1EB-6FC1D31C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EF870-075B-4873-9021-A5BEAD7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D569C-8BCD-4137-99D4-FE0A90BD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5D2B57-08EC-4084-913E-F0290A74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28CC-8006-4F16-863F-1E06483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B543A3-346A-4FCE-AF5C-836D609E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E2C71-696E-4FCC-9787-1A381820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CE574-405D-4497-AA14-B02373E5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A0705-37A1-4147-B5FF-1A1460D1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48135-02A0-469C-86EA-548B4348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79BBC-D002-48C6-9C38-56E4F476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FE8D7-2743-48E3-9395-5729FF4F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F0CB5-166D-4EA4-8114-55836C89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89373-9ADB-4720-8061-9FB0A12B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A86A7-32DA-4EE0-ADFA-8322EFB3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EA4-5ECA-46A2-B6C0-130F4AD6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61FE-281D-4C2D-B89C-C643FCB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4B65EF-DE51-48D1-8BA8-447DFA2E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E2478-4BE3-4AF7-BE1A-BE104713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47869-A0FC-4097-AC3D-701CF507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B1109-C420-425B-A792-75069FA6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52319-16EB-4CA3-A2FF-285F29A3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AC381-4EF0-41F8-BDE2-40E4B40B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A0365-0DAF-4553-AA6E-5E3AAC18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B90B6-6054-4E37-90A0-FC4EEF22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F62A65-95FD-46EF-BCC2-B053CDF9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FD753-0672-44C4-A332-CE71E635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20DF-877C-497F-9F61-969B6972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C6B8D-38E8-457A-838F-4B3BA7CE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5059F-E2EB-4C83-980C-CBC82400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9379AA-6D30-4816-BA94-7ECF162C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C3612-C34D-4726-8A08-A4E9BA12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950C47-998C-42F6-A59E-2182DD38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96492-79F9-4158-A1C5-A7B91E46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44EE1-2918-4966-8AED-41EECA6C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5671E-D640-4083-AE11-C9006836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2BCD8-1C68-469C-AEEA-5BABBAE2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6C829-39FA-46F5-B3D2-6786674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3C6B-8C7D-4998-B771-786B302D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4E38C-9AF9-47AF-B671-845C04B5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7CF901-6E92-4570-BC18-8E427210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43F37-6103-4170-BEC4-0D5ACF8B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716FE-CE2E-42CE-8E17-DE2E6FC1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80C5F-713A-4B1C-95D6-8841D695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3D830-6429-4EE7-8162-EB1A3522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E4D39-D0A7-4D44-8ED2-11C599F5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00A8C-E104-4024-BE58-DA3B4897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530F4-A384-4E56-B3C8-747E57E7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7A28F-63B7-45E3-85F1-7FB47DDA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B7B5-2B02-4D36-A93E-F2FF9D8E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8BCE7B-313C-4159-B4F4-7A733A1B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39501D-D179-42CF-B011-2392C4C2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0EEB9-DC99-4445-90A6-780B7889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AF734-C99A-4757-9F3D-DA22106C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B9ED0-087A-4615-A3B9-C1B7C093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C5C26-92A6-4F10-AF6D-AEA89904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1C5FE-A0EF-4898-A4A0-4D0E4C9C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6107F-7DA1-4DBE-B849-84E9621C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5C20B-E749-43F0-803C-05535E24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EF1974-7E35-4FA4-B583-8A1FF02F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4E05-DD2D-4107-AF01-2EAB074D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AF39E2-189D-4F5C-B53F-A2322A86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E0F66-4E1C-46A0-BFB2-EBA4F7AD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BD9605-A362-4FB8-B450-CFDEC7C3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022998-A307-486B-B614-03A1CF44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8D4AA-6B01-4779-A533-A41D7A9F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224913-385A-472A-B678-E4F9CEAD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A5E6D-BE43-4CD3-82B2-018020AF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C0F86B-D75B-489D-A406-0C008520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620DC2-1301-4D7E-8D89-21F3BD8E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31774-DBC2-4C61-A7B3-7435F37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4838-5C99-4B2E-AF6E-CF18C384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68959F-05E6-41E8-BD95-1A278945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CA1CB9-E551-4850-85A0-B412A579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A632F5-3625-4C40-9A55-48A0AF01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A46ACE-3989-4E9E-BC9E-3A623C15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00AABA-7FCD-4937-BE99-B2BF6ED0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DA9AB0-BC71-4AD5-B56D-FB3E2476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C2B23A-E1FD-425B-94A2-9384F192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9DDB67-16B5-4832-8CC4-6AE25576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08A69A-F705-48AB-A42A-AC1E2836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684B0B-9179-4FD9-BEAF-74314C8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4D775-B486-4A02-878F-44C63D44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9D13DA-9ECD-4E14-B151-3529FA9B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2261BE-040D-4E9B-ADD0-E1DD0A6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EA0BA3-1354-413A-8E7B-004F093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E5025D-CC23-44B4-8858-BC0B4BD0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AEFD42-0009-4C97-AD67-DB0A99D1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AD678C-675D-4B83-A10E-001DD8BE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31927-6D8B-40E4-885B-5D2947ED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C10622-ABD0-412A-BD60-A5A651DA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798F54-BED4-495B-8924-4E566FE4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8754E5-8826-4B67-A2CF-55E18FDF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F8BD-8CB1-4780-8902-08150B7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550842-F4B9-4936-AAAE-C810669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D8DBCA-EDC0-4769-8C9D-65B03D1A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435C25-DC40-4B93-A250-309613CD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363EB-064F-494B-860B-863B7BB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FEE2C1-5CD3-47F6-A553-77EFF6CE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1E4DA-5566-4498-8E6F-FDAD95F6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1DBA0A-6649-4899-BEA1-E5D00640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A4A99C-BEFE-4D22-BCFF-9AC5A42A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8A2B13-B174-4944-814F-BEB409E6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A6CD3E-15DD-473F-B047-810D6BB2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E75A-710E-4AEB-A84B-08169B8F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06436E-BE5D-4C5A-9EBC-D37FDCE9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B1298D-2621-47F3-80BA-135C79AA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4DBC2B-FC0D-4BDF-B966-3607E939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77A940-CAE2-46BD-B532-2045C4C9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D42DAF-DF31-486D-B8FC-E1276014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5F80DC-913D-40DB-B0FF-F491AA4C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65864A-F6F0-4FD1-98D5-94521808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56BF29-9CAA-4DCB-B97C-A75293DE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0C6F57-8E10-4C0A-B4E2-26BE0CDA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E81CF3-4A16-416B-A458-CC0717BF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704F-C58A-45AA-8579-6CA16F8C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840989-E1B9-4261-80D5-2798CA32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9E46D2-73E5-4A22-96CC-3C5D5334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36CA55-2E14-4E38-B8D5-F7BA2008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1F6FC4-1B34-411F-9770-925FA003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1D79DD-ADC1-4911-8D20-152E70BF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3193CC-0A8C-4A1A-B2DC-EE7A137D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D919F6-4533-4B5A-8B4D-CDAB6224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1DA22B-1007-474B-9A85-C54781B3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0AE778-646B-4118-B6D8-DB6779D6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C2C7A0-DF6F-4B3F-90E8-81307853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278-34BB-431A-908C-E0DB3859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C380-6FC2-4C94-B047-9DCE4D2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025D4A-6649-4D6D-AD5C-7B1ACAAB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18A54E-2C1F-4331-87EA-F388FBB2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C84258-0266-46C3-B5D1-BFBE760B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276C5F-C6BD-49D9-919F-7D3F6C3D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DFDC85-FA17-48AD-BAB4-4BD3372C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883304-045D-461D-B033-3005B988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9E0B1A-E193-4E80-8533-5992D5AD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31ADC9-23A5-42DE-99CC-A758BCD4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1B165E-BF8D-4A89-951A-F5EADF55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FA4103-C5B1-4F33-BC65-EE48108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5EBD-18A7-4EC9-AB9E-69FD23C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1AAFE6-0551-4E9F-8BAD-863BB33F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19AD05-8FB2-4BA4-9630-FCEAA298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71B47C-8A13-48B4-A0ED-93ED8236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F55038-E946-41A6-8C36-A90B6A6F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1114D4-A862-42C7-AEB8-DE4C35EC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CB4F84-CCCE-4172-B65B-1E76A602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21177D-D877-4A15-9AA5-04579DC7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2BC124-785C-45EB-BABC-1E0A2452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205D52-01F7-4A21-993D-403DF969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A5A174-D5EB-4550-B801-55F814C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243B9-E207-48E1-9FD5-3459A86F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B2DCC6-B0EA-4497-9B70-F324AE9D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C394A2-FA0D-4CF1-AC7C-76B44AD5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2267A7-B0FA-4477-8355-A8DE9E34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0B4E55-5D5C-4460-A5E8-64CF58A7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6F16BB-8F91-415C-903A-B5887C9D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284332-F422-4961-9E25-EE4BC9F0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C6313E-2E7F-4FAD-BC7C-4670CFF3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C4FFC4-0E62-41E8-9BFA-5357E8A6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C5989E-6B57-44DA-BC20-F9ED73A9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2D7BCC-BE5B-4E2C-AEEB-FB55E791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425F-98A1-48B3-8FAF-BAC1EB6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F9CBE0-5652-4BF3-9671-077D67F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2FF01E-630A-48F6-9A26-2539CE79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1B9A9C-81C8-48A4-B967-3DB29F0E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581FC0-9230-478E-A3EB-A019AE3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6CF96E-365A-45C8-A5D0-6D6E55B3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A2D3F6-8A5E-4B80-B7A8-E03C2128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95CB58-440B-431C-8B46-07140281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3660B2-F849-4F1F-B429-485F2615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31CFC3-4EBA-4C8E-9BA2-87DC9D49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39AD4F-4258-4651-AA03-CB680A79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5627-9B37-46CF-A8B0-060DE3BE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0E2958-2FB5-4CD6-8533-592B663B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9A85C4-4748-4E68-97F4-F64BE456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23C0EC-A581-46CC-A207-F783CC6F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BCCDE2-C808-4295-9E3E-A7080FB5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A82FA5-D74B-45FD-AD91-0513F5C3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998B64-11BF-4229-8BB4-ABE06F51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2D830E-508F-42DE-AB73-713AD4F2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D07F29-343F-484D-88B9-19983C83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BDB583-BF81-429F-8B07-CF046A4D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3A4C7F-21DF-4334-9486-10649701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B393-02D8-4D79-AC87-07C8DB31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281200-0D7D-4D2D-84C7-75E8FEC6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2A84D0-C828-4613-9E39-3D984E4F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8C25C8-2DFE-45F3-BA0F-4A9CC6F6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621856-13DF-4874-AB92-4721C5A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73D965-6313-4D81-9EDF-5B73F8B6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51D776-7F9B-45AE-B1B0-F548CC0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68E572-4DEF-492C-A018-2F14E61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F6D13C-291F-4133-9254-601E1AD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6F9961-71ED-4276-AD19-B4919EC6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DDF81F-072E-4D4D-87F1-B47287F3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B9CC-33D9-4628-8A45-7B976C6F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27893E-5E9F-4607-A2DF-4BDEF4FA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314A1E-4397-4968-85AE-CD1F468E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C4542B-89CA-473F-BBFE-39A43051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DFECF2-F955-48CF-A23C-84BFAD9C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F59B02-216B-42BE-846E-AE530359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BA2AF4-5017-4BDC-8126-13C70E92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FD3B94-A000-49E8-B35D-793CFF74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D8698A-D2FA-4803-B4C1-3DEC646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85643B-75BE-493D-A78E-B86B7ED2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A218C3-823E-4FF1-9DD5-D25EF849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63D95-9F3F-4BA7-B1A9-FDC96347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1BDD9A-D9EC-4495-92AC-E451481E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D0D767-F270-4AB8-8B75-2FE264AA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2E629E-9CD0-4380-B75F-0E677756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32551-C140-41D5-A3D2-1FF310DD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C02B2-0886-423A-8187-163F0F37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95B2-B9F8-40FB-A1D5-5B782BC0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5E8B-F9F1-435D-BFCD-BC5E51BA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ADB3-316A-4AC9-9198-7A257147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24A38-610B-4104-9BD4-462DC1BF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AC67-8461-4A54-A2CD-134576A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D5AC-1192-472A-8839-ECC9D1EA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F699-AD6F-4A15-A920-7371248A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0122-9E08-45A3-9058-8691AC0C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D0FE-4A8F-413B-BCA8-BBB7BCC3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7810-E9C6-41D5-B09F-0E0C860D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1BD92-A6F3-47DD-901A-659DC19E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1B8-82A6-40E1-8DF9-C65E69AA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1F33B-E447-4888-8905-061A174B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8CEC-837C-4A69-8627-C31B95B2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3C227-DF86-45A7-9671-99C56768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38E5-C6BA-45D5-9D4A-3D76E7D9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D0268-4A40-4AE2-B520-A24C301C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8D412-B4B8-4625-8E79-8B0D4E33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AF00-4F95-424E-9C5E-5E066E1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F640A-BA6D-4287-A29C-F46A639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A4D8B-D203-4311-886D-45C615A4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71EC-AA54-4A65-93C3-365F575C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79F-7CBF-47D6-9D7B-CC5B5001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F84B-ABE7-4CD9-9442-F8FF7C83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31FB5-9AC7-46A6-BC50-9510BE47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D184B-492A-4C90-A2C0-2DC237FC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A0AC1-072B-47DB-A014-E6FE04B1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4AC0E-300E-4E80-859D-4C17ACAA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709BF-6F92-4FA2-B632-3E36BEFF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4BA6-3FF0-4820-864B-6D423D40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60982-1B21-44C1-A157-43AFB75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BAA18-4912-4C00-B09E-B4447614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0BA88-531B-4E86-991D-3BF73BE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1D4-B2FA-465E-A340-A7F4E5A1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474E6-088D-41C0-9CEE-4F7996C7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5DEA-61C1-4901-ACF1-F829662B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C4CA-265A-4869-91CF-825A81C3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D9D99-32CA-4C59-963D-BFA39D6A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5D0F9-D62D-4601-99DE-1DEA66E2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1E2FA-30E7-48C0-9DEF-7DA4F068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11886-D957-441B-8B5A-42B81B47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4FD6C-4F50-4293-9F99-43251087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02F02-613D-4272-8B86-29C63850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D988A-4CE3-4140-B023-FEC7271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F6C-518C-4E0D-A915-57F68998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A4D8C-9289-4ED9-8D22-37905215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995C-8E81-4126-BB21-0A32484F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5D354-2CCB-4224-AC27-5C24B8A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900F4-6FCC-434B-8436-19DEF716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8945-FFE3-4DDE-8AE9-E2A0885B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98384-FDA7-42B2-B18C-D83FAAB0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167B8-CC13-4F5E-9228-4E165212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86A8D-6999-48DB-9F4C-1637D7B2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0516E-FBF2-449D-AC3C-FFCD279B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866C2-8E7B-4CD9-9887-961A6935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3D2-D1C8-4781-9330-831A08B2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ACF79-8C46-46D7-AEBA-572AE5D5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ED1B0-F250-4BF0-8F8E-C28C2C5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C7E64-41CB-47FD-8153-C16CDFCA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DEFEB-71BA-4C71-9891-7A6C26F3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FA89-C4D8-4918-B2DD-03736161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19D3E-BB63-476C-B644-F8BB83CD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D6006-2AD1-4561-ADDA-EFF47097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E6F39-9133-49B7-AC8A-0FC5C22F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D9612-3B5D-409A-B5A1-A75F2066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EA067-648E-4930-A3B8-D2BA073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A11D-A06F-4EF9-BF6E-E601664A38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AB44-5F18-4175-AB2B-6CE937EAC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2C01-826A-4A53-BB0A-A3428D95FD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92B9-F76E-457B-B181-317039B4BC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596D-1B22-47F6-A43A-1ADE945440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82E0-3AB7-4454-8447-8BAE3036F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AB83-4DCF-432D-ACF7-D5FB93BB09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8797-20F0-425E-BE0A-5CEE0A4826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C231-AE28-49A3-B2F5-256A8A467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0344-8278-4994-8F3F-0ADD7B5F28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4AAE-1C34-49AA-AEAE-5AD819945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A9EE-FC1D-4924-9907-0192919DCC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D8F9-A304-4930-9143-81A93A8068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94B2-2A21-48AD-9896-4795081B6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7FD8-6B4C-497A-9439-65B6096F76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6EF9-E2C2-41CA-8F02-BB51FCD9F7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0A06-0C6E-4B50-A923-6BC29AB2F0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F1C-8DDA-46B8-BD4B-A95261B6CF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A210-6667-47D1-BCE5-C03C1CD79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AEF3-F538-45CA-8866-A47FEF4942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C8E5-1131-41D7-A198-27FF6B1549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58EB-90ED-4F05-A77E-FFBE76BE31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C1B7-3FB9-41BE-AFFE-46F12DCF50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22F7-4FE3-4CD9-850D-D7ECBB59C8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77EF-299A-4D4C-BBFB-4C666F54C4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516E-D57A-4DDB-BF43-C58FBB3EED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BC1D-0F56-471D-9C3F-11A4287A2C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297A-18B3-4D88-A4F9-0F12C8BE29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7ABF-7C03-4AA9-80C7-52FAD6CB2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A350-D5F5-43E0-BF73-3D6C8EE0EB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D9D-56C2-414A-B0E0-DD5FCC28B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6F96-D38F-4B7D-B7F5-4649FFB785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6C03-5876-4329-939E-7E35670EB8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74ED-F02B-4A08-9449-350576F347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D714-96F4-4FBF-AA84-4FF243EFEC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D8CD-59A7-475C-86A6-9134D945FD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2A06-8632-461D-9324-FC6ACAD4A6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6B2F-54BA-4763-9DD5-238392F56A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E334-A1B7-4BF9-B3D7-E086446DC1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6E20-BEC4-4E13-89F0-9E1F147412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1F14-9453-4A40-88B2-950A22D314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7E6C-F46D-4E88-A591-517D0FEBA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A059-55DC-4532-89E8-23587F089D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D71D-18DD-44A8-B1E8-19E12B3F37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77D8-5392-484B-A5B3-8EE05FF20C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7459-F6F9-42D9-8322-B7DC1880EA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B8AF-9649-44D2-9D5C-A2A4F5F015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F25-B545-4E80-9134-77ABEDF0EE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134A-7C3A-499C-A629-C4978BB0C9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558C-2604-4865-8EF0-1BD56BEFC6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366920" y="2828880"/>
            <a:ext cx="64101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79873" descr=""/>
          <p:cNvPicPr/>
          <p:nvPr/>
        </p:nvPicPr>
        <p:blipFill>
          <a:blip r:embed="rId1"/>
          <a:stretch/>
        </p:blipFill>
        <p:spPr>
          <a:xfrm>
            <a:off x="519120" y="1100160"/>
            <a:ext cx="8105760" cy="46576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79874"/>
          <p:cNvSpPr/>
          <p:nvPr/>
        </p:nvSpPr>
        <p:spPr>
          <a:xfrm>
            <a:off x="7812000" y="16286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78849" descr=""/>
          <p:cNvPicPr/>
          <p:nvPr/>
        </p:nvPicPr>
        <p:blipFill>
          <a:blip r:embed="rId1"/>
          <a:stretch/>
        </p:blipFill>
        <p:spPr>
          <a:xfrm>
            <a:off x="500040" y="1338120"/>
            <a:ext cx="8143920" cy="4181760"/>
          </a:xfrm>
          <a:prstGeom prst="rect">
            <a:avLst/>
          </a:prstGeom>
          <a:ln w="0">
            <a:noFill/>
          </a:ln>
        </p:spPr>
      </p:pic>
      <p:sp>
        <p:nvSpPr>
          <p:cNvPr id="1454" name="矩形 78850"/>
          <p:cNvSpPr/>
          <p:nvPr/>
        </p:nvSpPr>
        <p:spPr>
          <a:xfrm>
            <a:off x="1447920" y="4003560"/>
            <a:ext cx="1539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78851"/>
          <p:cNvSpPr/>
          <p:nvPr/>
        </p:nvSpPr>
        <p:spPr>
          <a:xfrm>
            <a:off x="3514680" y="4594320"/>
            <a:ext cx="912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78852"/>
          <p:cNvSpPr/>
          <p:nvPr/>
        </p:nvSpPr>
        <p:spPr>
          <a:xfrm>
            <a:off x="7439040" y="4575240"/>
            <a:ext cx="912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77825" descr=""/>
          <p:cNvPicPr/>
          <p:nvPr/>
        </p:nvPicPr>
        <p:blipFill>
          <a:blip r:embed="rId1"/>
          <a:stretch/>
        </p:blipFill>
        <p:spPr>
          <a:xfrm>
            <a:off x="519120" y="1566720"/>
            <a:ext cx="8105760" cy="3724560"/>
          </a:xfrm>
          <a:prstGeom prst="rect">
            <a:avLst/>
          </a:prstGeom>
          <a:ln w="0">
            <a:noFill/>
          </a:ln>
        </p:spPr>
      </p:pic>
      <p:sp>
        <p:nvSpPr>
          <p:cNvPr id="1458" name="矩形 77826"/>
          <p:cNvSpPr/>
          <p:nvPr/>
        </p:nvSpPr>
        <p:spPr>
          <a:xfrm>
            <a:off x="3610080" y="2679840"/>
            <a:ext cx="817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77827"/>
          <p:cNvSpPr/>
          <p:nvPr/>
        </p:nvSpPr>
        <p:spPr>
          <a:xfrm>
            <a:off x="4486320" y="4280040"/>
            <a:ext cx="817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77828"/>
          <p:cNvSpPr/>
          <p:nvPr/>
        </p:nvSpPr>
        <p:spPr>
          <a:xfrm>
            <a:off x="4210200" y="4832280"/>
            <a:ext cx="817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76801" descr=""/>
          <p:cNvPicPr/>
          <p:nvPr/>
        </p:nvPicPr>
        <p:blipFill>
          <a:blip r:embed="rId1"/>
          <a:stretch/>
        </p:blipFill>
        <p:spPr>
          <a:xfrm>
            <a:off x="466560" y="2124000"/>
            <a:ext cx="8210880" cy="2610000"/>
          </a:xfrm>
          <a:prstGeom prst="rect">
            <a:avLst/>
          </a:prstGeom>
          <a:ln w="0">
            <a:noFill/>
          </a:ln>
        </p:spPr>
      </p:pic>
      <p:pic>
        <p:nvPicPr>
          <p:cNvPr id="1462" name="图片 76802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4896000" cy="457200"/>
          </a:xfrm>
          <a:prstGeom prst="rect">
            <a:avLst/>
          </a:prstGeom>
          <a:ln w="0">
            <a:noFill/>
          </a:ln>
        </p:spPr>
      </p:pic>
      <p:sp>
        <p:nvSpPr>
          <p:cNvPr id="1463" name="矩形 76803"/>
          <p:cNvSpPr/>
          <p:nvPr/>
        </p:nvSpPr>
        <p:spPr>
          <a:xfrm>
            <a:off x="1838160" y="3184560"/>
            <a:ext cx="78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76804"/>
          <p:cNvSpPr/>
          <p:nvPr/>
        </p:nvSpPr>
        <p:spPr>
          <a:xfrm>
            <a:off x="4533840" y="3193920"/>
            <a:ext cx="78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76805"/>
          <p:cNvSpPr/>
          <p:nvPr/>
        </p:nvSpPr>
        <p:spPr>
          <a:xfrm>
            <a:off x="2843280" y="4797360"/>
            <a:ext cx="788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89089" descr=""/>
          <p:cNvPicPr/>
          <p:nvPr/>
        </p:nvPicPr>
        <p:blipFill>
          <a:blip r:embed="rId1"/>
          <a:stretch/>
        </p:blipFill>
        <p:spPr>
          <a:xfrm>
            <a:off x="476280" y="809640"/>
            <a:ext cx="8191440" cy="5238720"/>
          </a:xfrm>
          <a:prstGeom prst="rect">
            <a:avLst/>
          </a:prstGeom>
          <a:ln w="0">
            <a:noFill/>
          </a:ln>
        </p:spPr>
      </p:pic>
      <p:sp>
        <p:nvSpPr>
          <p:cNvPr id="1467" name="矩形 89090"/>
          <p:cNvSpPr/>
          <p:nvPr/>
        </p:nvSpPr>
        <p:spPr>
          <a:xfrm>
            <a:off x="3300480" y="3968640"/>
            <a:ext cx="788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89091"/>
          <p:cNvSpPr/>
          <p:nvPr/>
        </p:nvSpPr>
        <p:spPr>
          <a:xfrm>
            <a:off x="6253200" y="4502160"/>
            <a:ext cx="78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89092"/>
          <p:cNvSpPr/>
          <p:nvPr/>
        </p:nvSpPr>
        <p:spPr>
          <a:xfrm>
            <a:off x="7719840" y="5045040"/>
            <a:ext cx="78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89093"/>
          <p:cNvSpPr/>
          <p:nvPr/>
        </p:nvSpPr>
        <p:spPr>
          <a:xfrm>
            <a:off x="1619280" y="5589720"/>
            <a:ext cx="78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90113" descr=""/>
          <p:cNvPicPr/>
          <p:nvPr/>
        </p:nvPicPr>
        <p:blipFill>
          <a:blip r:embed="rId1"/>
          <a:stretch/>
        </p:blipFill>
        <p:spPr>
          <a:xfrm>
            <a:off x="762120" y="1085760"/>
            <a:ext cx="7619760" cy="46864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90115"/>
          <p:cNvSpPr/>
          <p:nvPr/>
        </p:nvSpPr>
        <p:spPr>
          <a:xfrm>
            <a:off x="2709720" y="1635120"/>
            <a:ext cx="78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0116"/>
          <p:cNvSpPr/>
          <p:nvPr/>
        </p:nvSpPr>
        <p:spPr>
          <a:xfrm>
            <a:off x="3376440" y="2158920"/>
            <a:ext cx="78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90117"/>
          <p:cNvSpPr/>
          <p:nvPr/>
        </p:nvSpPr>
        <p:spPr>
          <a:xfrm>
            <a:off x="6539040" y="3235320"/>
            <a:ext cx="554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1137" descr=""/>
          <p:cNvPicPr/>
          <p:nvPr/>
        </p:nvPicPr>
        <p:blipFill>
          <a:blip r:embed="rId1"/>
          <a:stretch/>
        </p:blipFill>
        <p:spPr>
          <a:xfrm>
            <a:off x="476280" y="833400"/>
            <a:ext cx="81914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2161" descr=""/>
          <p:cNvPicPr/>
          <p:nvPr/>
        </p:nvPicPr>
        <p:blipFill>
          <a:blip r:embed="rId1"/>
          <a:stretch/>
        </p:blipFill>
        <p:spPr>
          <a:xfrm>
            <a:off x="681120" y="1876320"/>
            <a:ext cx="7781760" cy="310536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2162"/>
          <p:cNvSpPr/>
          <p:nvPr/>
        </p:nvSpPr>
        <p:spPr>
          <a:xfrm>
            <a:off x="976320" y="1987560"/>
            <a:ext cx="4172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92163"/>
          <p:cNvSpPr/>
          <p:nvPr/>
        </p:nvSpPr>
        <p:spPr>
          <a:xfrm>
            <a:off x="843120" y="2492280"/>
            <a:ext cx="417168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2164"/>
          <p:cNvSpPr/>
          <p:nvPr/>
        </p:nvSpPr>
        <p:spPr>
          <a:xfrm>
            <a:off x="1014480" y="3397320"/>
            <a:ext cx="417204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2165"/>
          <p:cNvSpPr/>
          <p:nvPr/>
        </p:nvSpPr>
        <p:spPr>
          <a:xfrm>
            <a:off x="966960" y="3959280"/>
            <a:ext cx="42526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2166"/>
          <p:cNvSpPr/>
          <p:nvPr/>
        </p:nvSpPr>
        <p:spPr>
          <a:xfrm>
            <a:off x="871560" y="4492800"/>
            <a:ext cx="425304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82080" cy="47149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88066"/>
          <p:cNvSpPr/>
          <p:nvPr/>
        </p:nvSpPr>
        <p:spPr>
          <a:xfrm>
            <a:off x="5724360" y="3213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48880" cy="569628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7042"/>
          <p:cNvSpPr/>
          <p:nvPr/>
        </p:nvSpPr>
        <p:spPr>
          <a:xfrm>
            <a:off x="7781760" y="394668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6017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029440" cy="1038240"/>
          </a:xfrm>
          <a:prstGeom prst="rect">
            <a:avLst/>
          </a:prstGeom>
          <a:ln w="0">
            <a:noFill/>
          </a:ln>
        </p:spPr>
      </p:pic>
      <p:pic>
        <p:nvPicPr>
          <p:cNvPr id="1438" name="图片 86018" descr=""/>
          <p:cNvPicPr/>
          <p:nvPr/>
        </p:nvPicPr>
        <p:blipFill>
          <a:blip r:embed="rId2"/>
          <a:stretch/>
        </p:blipFill>
        <p:spPr>
          <a:xfrm>
            <a:off x="1042920" y="2997360"/>
            <a:ext cx="7686720" cy="1095120"/>
          </a:xfrm>
          <a:prstGeom prst="rect">
            <a:avLst/>
          </a:prstGeom>
          <a:ln w="0">
            <a:noFill/>
          </a:ln>
        </p:spPr>
      </p:pic>
      <p:sp>
        <p:nvSpPr>
          <p:cNvPr id="1439" name="矩形 86019"/>
          <p:cNvSpPr/>
          <p:nvPr/>
        </p:nvSpPr>
        <p:spPr>
          <a:xfrm>
            <a:off x="7858080" y="31464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4993" descr=""/>
          <p:cNvPicPr/>
          <p:nvPr/>
        </p:nvPicPr>
        <p:blipFill>
          <a:blip r:embed="rId1"/>
          <a:stretch/>
        </p:blipFill>
        <p:spPr>
          <a:xfrm>
            <a:off x="528480" y="2114640"/>
            <a:ext cx="8087040" cy="2628720"/>
          </a:xfrm>
          <a:prstGeom prst="rect">
            <a:avLst/>
          </a:prstGeom>
          <a:ln w="0">
            <a:noFill/>
          </a:ln>
        </p:spPr>
      </p:pic>
      <p:sp>
        <p:nvSpPr>
          <p:cNvPr id="1441" name="矩形 84994"/>
          <p:cNvSpPr/>
          <p:nvPr/>
        </p:nvSpPr>
        <p:spPr>
          <a:xfrm>
            <a:off x="7800840" y="3213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83969" descr=""/>
          <p:cNvPicPr/>
          <p:nvPr/>
        </p:nvPicPr>
        <p:blipFill>
          <a:blip r:embed="rId1"/>
          <a:stretch/>
        </p:blipFill>
        <p:spPr>
          <a:xfrm>
            <a:off x="528480" y="709560"/>
            <a:ext cx="8087040" cy="5438880"/>
          </a:xfrm>
          <a:prstGeom prst="rect">
            <a:avLst/>
          </a:prstGeom>
          <a:ln w="0">
            <a:noFill/>
          </a:ln>
        </p:spPr>
      </p:pic>
      <p:sp>
        <p:nvSpPr>
          <p:cNvPr id="1443" name="矩形 83970"/>
          <p:cNvSpPr/>
          <p:nvPr/>
        </p:nvSpPr>
        <p:spPr>
          <a:xfrm>
            <a:off x="7800840" y="12222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82945" descr=""/>
          <p:cNvPicPr/>
          <p:nvPr/>
        </p:nvPicPr>
        <p:blipFill>
          <a:blip r:embed="rId1"/>
          <a:stretch/>
        </p:blipFill>
        <p:spPr>
          <a:xfrm>
            <a:off x="528480" y="2109960"/>
            <a:ext cx="8087040" cy="263808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82946" descr=""/>
          <p:cNvPicPr/>
          <p:nvPr/>
        </p:nvPicPr>
        <p:blipFill>
          <a:blip r:embed="rId2"/>
          <a:stretch/>
        </p:blipFill>
        <p:spPr>
          <a:xfrm>
            <a:off x="826920" y="4724280"/>
            <a:ext cx="5334120" cy="4669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2947"/>
          <p:cNvSpPr/>
          <p:nvPr/>
        </p:nvSpPr>
        <p:spPr>
          <a:xfrm>
            <a:off x="7781760" y="265104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81921" descr=""/>
          <p:cNvPicPr/>
          <p:nvPr/>
        </p:nvPicPr>
        <p:blipFill>
          <a:blip r:embed="rId1"/>
          <a:stretch/>
        </p:blipFill>
        <p:spPr>
          <a:xfrm>
            <a:off x="523800" y="1905120"/>
            <a:ext cx="8096400" cy="3047760"/>
          </a:xfrm>
          <a:prstGeom prst="rect">
            <a:avLst/>
          </a:prstGeom>
          <a:ln w="0">
            <a:noFill/>
          </a:ln>
        </p:spPr>
      </p:pic>
      <p:sp>
        <p:nvSpPr>
          <p:cNvPr id="1448" name="矩形 81922"/>
          <p:cNvSpPr/>
          <p:nvPr/>
        </p:nvSpPr>
        <p:spPr>
          <a:xfrm>
            <a:off x="7743960" y="247032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80897" descr=""/>
          <p:cNvPicPr/>
          <p:nvPr/>
        </p:nvPicPr>
        <p:blipFill>
          <a:blip r:embed="rId1"/>
          <a:stretch/>
        </p:blipFill>
        <p:spPr>
          <a:xfrm>
            <a:off x="509760" y="1090440"/>
            <a:ext cx="8124480" cy="4677120"/>
          </a:xfrm>
          <a:prstGeom prst="rect">
            <a:avLst/>
          </a:prstGeom>
          <a:ln w="0">
            <a:noFill/>
          </a:ln>
        </p:spPr>
      </p:pic>
      <p:sp>
        <p:nvSpPr>
          <p:cNvPr id="1450" name="矩形 80898"/>
          <p:cNvSpPr/>
          <p:nvPr/>
        </p:nvSpPr>
        <p:spPr>
          <a:xfrm>
            <a:off x="7781760" y="3213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57:55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